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481-AA84-4BE3-841C-4C11CD06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1B0-2D76-4B2B-A1E2-8C7E5099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FBD-F46A-45C0-9E11-F35CE18E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9D8-16CF-42E4-B38D-F9E3E02F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78D3-F268-4F8F-A1AC-B833F74B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A723-51EE-4F80-8938-387BA084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F6B6-DF93-4EBE-9B9D-112BCEFC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5854-C1EF-49D8-90C7-64F8B89D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67D8-7112-491C-AA59-8FD51AB3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980F-BEC7-4C08-AFE4-C83C7C4D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014D-F43D-435A-B947-5585FBC0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46D-A2D0-418C-9588-A290EC06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150D-B24C-4AB1-90E3-C5B43D4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30FA-7A93-4FFD-9F00-192EB07C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BB44-AE23-466B-A911-7CA94460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6181-F766-460A-816E-9A37FC5F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F01B-7298-4528-A7F4-38F17C58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04C-E29D-4D37-AEF6-F69B36A4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B53-4E5A-4F21-8EAA-47BD7077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CC5-6A02-48D7-AD7C-946B018D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267-9FE4-469C-ABB7-071F1074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48C-9C6B-4C95-8E45-866F8F5B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05A-87B4-4966-99AA-06FD52A2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824-2222-4F29-8D2D-EB3CBC69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B9D5-B32A-461D-93DE-95CD288CA7B2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9C83-8C9E-4965-80B0-E8F81873CFF2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2268360" cy="69228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50000">
                <a:srgbClr val="666699"/>
              </a:gs>
              <a:gs pos="100000">
                <a:srgbClr val="666699"/>
              </a:gs>
            </a:gsLst>
            <a:lin ang="108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礼让，和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960" y="36000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舒体"/>
              </a:rPr>
              <a:t>造文明社会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44680" y="591840"/>
            <a:ext cx="78984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当 文 明 人！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0"/>
            <a:ext cx="2124000" cy="69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互助，温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340000" y="260280"/>
            <a:ext cx="6804000" cy="6167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6120" y="260280"/>
            <a:ext cx="13993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此情此境，你感受如何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4960" y="333360"/>
            <a:ext cx="6035760" cy="6191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630120" y="836640"/>
            <a:ext cx="139932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损人利己，没素质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27416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6697440" cy="6597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4480" y="549360"/>
            <a:ext cx="1399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礼让三分，命长久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325080" cy="698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 rot="900000">
            <a:off x="3058920" y="476280"/>
            <a:ext cx="496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一滴水折射太阳的光辉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77336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一个细节反映一个人的品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781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你的行为能反映出你有优秀的品质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904760"/>
            <a:ext cx="815796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觉投币“公交”，前上后下有秩序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00680" y="260280"/>
            <a:ext cx="4243320" cy="268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3889440" cy="2808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39840" y="3490920"/>
            <a:ext cx="36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3527640" cy="2233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6720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148360" y="692280"/>
            <a:ext cx="3744720" cy="2371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39640" y="4005360"/>
            <a:ext cx="3672000" cy="2325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324036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744720" cy="2372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414036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-819000"/>
            <a:ext cx="9753480" cy="7677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404640"/>
            <a:ext cx="766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63ec2"/>
                </a:solidFill>
                <a:latin typeface="Arial"/>
                <a:ea typeface="隶书"/>
              </a:rPr>
              <a:t>勿以恶小而为之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63ec2"/>
                </a:solidFill>
                <a:latin typeface="Arial"/>
                <a:ea typeface="隶书"/>
              </a:rPr>
              <a:t>勿以善小而不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28400" y="266760"/>
            <a:ext cx="237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隶书"/>
              </a:rPr>
              <a:t>他律－－自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隶书"/>
              </a:rPr>
              <a:t>慎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24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2195640" cy="10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332000" cy="98100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15200 h 981000"/>
              <a:gd name="textAreaBottom" fmla="*/ 615240 h 981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d81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82680" y="0"/>
            <a:ext cx="668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文明学生做到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十  个  一，五  个  无，三  个  轻  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41300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十个一”是一次网吧不去，一次打骂不沾，一句谎言不说，一个脏物不扔，一件公物不损，一点他物不拿，一次烟酒不沾，一次荣誉不丢，一分一秒不舍，一角一分不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五个无”是身边无废纸，周围无痰迹，桌面无刻画，墙面无脚印、球印，出言无脏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 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三个轻轻”是说话轻轻，走路轻轻，举止轻轻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557360"/>
            <a:ext cx="431640" cy="576360"/>
          </a:xfrm>
          <a:prstGeom prst="star5">
            <a:avLst/>
          </a:prstGeom>
          <a:solidFill>
            <a:srgbClr val="d81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005360"/>
            <a:ext cx="431640" cy="431640"/>
          </a:xfrm>
          <a:prstGeom prst="star5">
            <a:avLst/>
          </a:prstGeom>
          <a:solidFill>
            <a:srgbClr val="d81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373720"/>
            <a:ext cx="574560" cy="576360"/>
          </a:xfrm>
          <a:prstGeom prst="star5">
            <a:avLst/>
          </a:prstGeom>
          <a:solidFill>
            <a:srgbClr val="d81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中国是个文明古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中华民族素有礼仪之邦之美誉，作为炎黄子孙，我们不但要承袭优良的文明传统，更要将这种文化发扬光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伟大的教育家孔子说过：“己所不欲，勿施于人”，孟子说：“老吾老，以及人之老；幼吾幼，以及人之幼”。由此可见，古人对“礼”是非常注重的，我们不妨扪心自问一下，古人尚能如此，作为进步的现代人我们又该怎样呢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自尊自爱，注重仪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行楷"/>
              </a:rPr>
              <a:t>教育家孔子要求他的学生站立有样，彬彬有礼。荀子也说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行楷"/>
              </a:rPr>
              <a:t>:“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行楷"/>
              </a:rPr>
              <a:t>人无礼而不坐，事无礼而不成，国无礼而不宁。”中国是礼仪之邦，我们应传承文明，提高自身素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们共同生活在社会大家庭，每天要与很多人接触，造就了不少文明礼貌。倘若我们都不讲文明，撞到了别人不道歉，反骂别人没长眼睛，别人帮了你的忙不说谢谢，反怪别人多管闲事，逢人便叫喂，反美其名曰：“新潮”，那时我们的社会会变成什么样子？哪里还说得上公民的良好素质？哪里说得上中国人民大团结，哪里还说得上社会主义精神文明建设的成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同学们，我们是祖国的未来和希望，是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世纪社会主义精神文明的劲军，我们更应该增强公民素质，自觉遵纪守法，让自己成为讲公德、守法纪的文明人，让我们的祖国充满灿烂的阳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9468000" cy="7278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39640" y="549360"/>
            <a:ext cx="25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隶书"/>
              </a:rPr>
              <a:t>让我们共同努力，创作文明社会，当文明人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f7ff"/>
                </a:solidFill>
                <a:latin typeface="Arial"/>
                <a:ea typeface="隶书"/>
              </a:rPr>
              <a:t>黑夜给了我黑色的眼睛，我却用它寻找</a:t>
            </a:r>
            <a:r>
              <a:rPr b="1" lang="zh-CN" sz="3200" spc="-1" strike="noStrike">
                <a:solidFill>
                  <a:srgbClr val="b0db25"/>
                </a:solidFill>
                <a:latin typeface="Arial"/>
                <a:ea typeface="隶书"/>
              </a:rPr>
              <a:t>“文明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62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f7ff"/>
                </a:solidFill>
                <a:latin typeface="Arial"/>
                <a:ea typeface="隶书"/>
              </a:rPr>
              <a:t>讨论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：</a:t>
            </a:r>
            <a:r>
              <a:rPr b="1" lang="zh-CN" sz="3200" spc="-1" strike="noStrike">
                <a:solidFill>
                  <a:srgbClr val="b0db25"/>
                </a:solidFill>
                <a:latin typeface="Arial"/>
                <a:ea typeface="隶书"/>
              </a:rPr>
              <a:t>我们身边有哪些不文明的现象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5600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1040" y="333360"/>
            <a:ext cx="127764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你觉得这样的行为恶心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39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5976720" cy="604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455600" y="-834480"/>
            <a:ext cx="789840" cy="83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明知故犯的行为，可恨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701760" y="620640"/>
            <a:ext cx="13993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强不让弱非好汉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688000" cy="5005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58760" y="609480"/>
            <a:ext cx="60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缺德行为，害人不浅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58760" y="609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473200" y="0"/>
            <a:ext cx="66708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0120" y="189000"/>
            <a:ext cx="13993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黑运当头，谁最缺德？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6913800" cy="493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5373720"/>
            <a:ext cx="50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你  有  何  话  说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2:02:1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3:21Z</dcterms:modified>
  <cp:revision>1</cp:revision>
  <dc:subject>主题班会课件(分28大类): http://shop62905894.taobao.com</dc:subject>
  <dc:title>主题班会课件(分28大类): http://shop62905894.taobao.com</dc:title>
</cp:coreProperties>
</file>